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A21C-6C9A-4CD6-AFEC-C9014835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D1F4-2D97-4E56-AF0D-D267EA3B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A0B3E-08D4-4E14-A61A-FDF385D8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13462-1811-4D44-8ADA-4560DBFE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8BE77-4F8F-4694-BA1E-081DF8BE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357FE-FE54-46A7-801A-28A581D0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1E947-3879-4554-95D8-D0734977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7AAB4-9972-4A1C-8ACF-F448E2F4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21F67-44E8-4D2C-98EC-09F2D122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F7064-B829-4A8C-B09B-33B45B0D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DD3F8-07D8-4C63-A479-E2D9EC70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7EAF0-9FAA-4B65-9C52-21E74D6C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9E6F-2B33-4266-982D-037013B3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ECB30-0D9F-4A35-917C-EB116684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DCA84-BA36-44A0-B487-C4A375BE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38BD1-70FD-4581-8B94-279872D2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EFCC4-498C-4BA2-86E5-245121B8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E4E11-A58B-464D-A370-23422FDA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8285B-C6B9-47FD-8E40-54751231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1C711-4E1B-4E66-AC85-0AB6C28C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A6244-ADF0-4247-9CAE-F82E97BA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62867-C3BC-4374-84C0-E0D6F019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64F35-7EDE-4441-BE94-1994CDF9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14F2A-E1FE-41DC-A1DB-BDB96146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EEA4E-CDF3-4AE6-BF96-D4C2177C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A39E-6B94-4672-A7BB-5723B5B3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3750-237F-4E6C-9A67-EA4094D6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8D12-95F9-473D-A6A5-E2351EC1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6DF3-0E34-4912-AB70-67222185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711A-0AB0-47AE-8033-5CBA3F5E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DCA6-7734-4DF3-97C5-A811DE2E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9961-55FD-4B1F-8928-24DCA1F3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9637A-524D-4D5B-AA6D-C849DACA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7201-8EC0-404B-A639-E26C13C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4F3B-AD5D-4434-8ACD-CD95AA20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F9EC-EC46-4BAD-8210-D61370C5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A232-57FF-4F23-815D-21E878A2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FA2D-18FD-480F-9597-F6465070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3B53-5B60-4990-A715-17A4989A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68E5-4251-4706-8D3E-34A321F7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42038-4780-40EF-B984-EC569B53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D669E-7DA6-413B-972E-DBA5F50B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89F21-2A78-4BA6-9931-3B02FBFE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0358-7E4B-470D-A18B-83DCC711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EC3D9-3133-4ACF-82E4-B838D578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74A0-468E-455B-9D66-FE6DA667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B7F0-1F79-405A-8D31-7363C3F9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31FD-1C6B-444D-9323-1E36391A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40D8-8A02-42B6-8E74-950E3096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CB05-F15B-45B9-966A-DCBADCE9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7BF0-05D2-440E-A350-3A3D8A62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54270-838F-40ED-AE2B-965FE336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DF9CB5-54E9-4739-88DA-7BA12C62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19D46-C193-4093-A47E-9C1AFBE8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6404-5C97-44AB-BB9F-98D44F39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E13A4-25FB-4F90-964A-A591C1AD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47762-BA9B-45F6-8674-23DA88F5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03B10-D558-41D0-8F1E-635CECC1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981C0-C4AD-4424-9517-6F18CE34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131AC-CFAD-4475-85D3-BC67E210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E391A-4635-4FAD-9BC1-093E065C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88F543-0963-4B35-AE30-C5EB744F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5E84B-98E1-41CC-85A0-F8AA313B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4CD71-47CB-408C-995F-846FD16A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85BD9-3307-4EC3-B604-44B252C4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6442-9625-4220-8D27-150A2802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23AE4-574A-43A7-BCF1-7A0320E1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6FA14-78B0-4BCD-B552-65A5FC14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F31F2-718D-457A-BBD2-4AD315C3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E5662-AC3E-4634-B175-FC5982A8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F1C0B-26D4-4109-BA37-6D39EF09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67FC0-24CF-4BA8-98A4-576D3E27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24823-5824-42D7-B925-54B7E36C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479FB-D8BA-43F7-B400-AD97359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465D0-480C-4BA1-BD73-3138B515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55554-8975-45F0-A955-A860D8B3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A3BE0-9667-49D5-BA68-4ADD765F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F2A9A-E34D-4E68-9B22-EBE0D684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3A91A-C887-40FD-9DC6-F1D2A154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6A3AC-17BC-4D48-8F9C-BEB925C9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CD53A-07BF-469B-ADCF-9350B241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7EC95-9AD5-40E8-B870-07A5F7F4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98BAA-8F28-48D5-99F6-7DC00840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22E01-D402-4E2E-89D5-F4F3D0ED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49888-CD96-46DF-866A-4537EFF2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F8C70-2551-43EE-A627-6BFC39AC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FC0BB-F0B4-4D7F-8BE6-3914A7E7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AAB7-CBB2-4CA4-B3FC-BF5F4250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A855E-DDFD-46F2-871B-35E62AA0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58B97-74D3-4F90-8EB2-AD03710E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E27BA-A1DB-4776-B041-AD2E749D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D2C8-933A-452C-B4D4-E51FB6C5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C43B6-B82C-4D6F-9D13-821CBBD5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6F3C5-A752-4942-9D39-81C4C627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05661-9354-49EF-B8D1-399E83D0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0AD57-6B2F-46C8-BDB8-8A681425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8803C-E00A-4BFB-9369-E7444BEC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5593B-E1C8-495E-931E-34B68297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6FC5-34A5-43AD-9A7E-0EE8F46D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91447-35C8-4195-8614-3F7E77BE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80A98-F8A5-4DA0-933C-BD4224ED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F6295-E88B-43C0-9850-751B3ECA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82FE8-F0D2-4EA7-8B70-43849E59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49F09-8BA9-4BB1-B143-F1A4A0C8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606D6-E1BD-4C44-89DD-E3F91629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DD736-D7ED-4104-9FBC-AD5801C1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CF324-3A87-44F2-B5F0-2F458023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9DC9F-D60B-479E-9FEB-2948F4F2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0993E-A8C9-4455-AEF5-54D9BE95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EC1F-EC79-4B2E-AED0-AD43697C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56841-F92E-426C-9040-0D139F30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71F9E-2CA7-4F52-99E7-AB3CE6D7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FEC91-A3C3-4A77-A32F-23355A60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9A96E-C358-4E6E-A0EA-7635D993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5B24A-AEF2-400F-8DD8-A2565A70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2A57-263F-4209-8927-A265449E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483C9-8D86-43BB-840E-ABE3E27C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F3ECD-5F89-4DCA-B3C8-AF84EE59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477B1-BC6A-42F1-A025-4254A94D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84FC6-2DE3-4FD5-B867-CA320972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F3C1-D260-4092-8AE8-5BFCBE6ED86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2FFE-8F09-4BAD-8038-EC3EFB106A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69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11D5-15CB-445E-82F6-0E3B0CDAC2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B136-BE1A-4A4C-92E4-485D357C7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7706-C59D-4DA6-9D04-F60BDDB90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0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8AD9-0FEC-483F-A45B-5E8E4708C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AB61-038E-47F9-BF25-06BC422E1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2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E353-82D5-4E3A-9993-B4C6AE6760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37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932D-070B-4BF1-93A0-164DAEBF67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306E-1004-4797-AF30-19F2A0D2C2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22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2" name=""/>
          <p:cNvGraphicFramePr/>
          <p:nvPr/>
        </p:nvGraphicFramePr>
        <p:xfrm>
          <a:off x="0" y="0"/>
          <a:ext cx="9143640" cy="6857280"/>
        </p:xfrm>
        <a:graphic>
          <a:graphicData uri="http://schemas.openxmlformats.org/drawingml/2006/table">
            <a:tbl>
              <a:tblPr/>
              <a:tblGrid>
                <a:gridCol w="9143640"/>
              </a:tblGrid>
              <a:tr h="68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го  из  своих  знакомых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  понимаешь  лучше…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Что  такое  дружба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жде всего, нужно помнить, что никакой «дружбы» не существует. То есть, существуют отношения между людьми, которые можно каким-то образом характеризовать, и существует традиция называть определенный тип отношений дружбой. Но никакой самостоятельной сущности под названием «дружба» нет. Есть только реальные живые отношения, без имен и четких очерт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юда следует, что понятия, вроде «настоящей дружбы», «настоящей любви» и тому подобных, по сути своей, абсурдны. Если реально существуют только конкретное взаимодействие между конкретными людьми, то как можно проводить черту между настоящим и не-настоящим, между дружбой и не дружбой, между любовью и не любовь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024360" cy="424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5256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Эксперты утверждают, что в основе женской дружбы лежат отношения между матерью и дочерью. На подсознательном уровне, соревнуясь за любовь одного человека: мужа и отца - будущие дружеские отношения между женщинами напрямую связаны с опытом, через который приходилось проходить женщине, пока она росла. С такой тесной связью, женщина зачастую может «ощущать» боль или радость, которые испытывает ее подруг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Но, наряду с такой удивительной тесной связью, могут возникать и напряжения в результате такой обоюдной зависимости матери и дочери. Как показывают многочисленные примеры, женщина может бояться жизни и никогда не сможет забыть о душевном потрясении, которое она могла испытать, если была предана или оставлена другой женщиной. Как подтверждают многие женщины, такие негативные и стрессовые чувства в основном связаны с болью прекращения любовных отношений с мужчиной из-за поведения подруг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835280" y="836640"/>
            <a:ext cx="5832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нская  дружб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Но в основе мужской дружбы лежит все-таки не сотрудничество и взаимовыручка, а та же самая потребность в утешении, что и у женщин. Мужчины дружат ровно для того же самого — чтобы было на кого выплакать свои слез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Да, мужчины не плачут — они пьют горькую и, закусывая, делятся своими проблемами. Мужчина должен быть суровым и плакать ему не положено, но суть от этого не меняется. За пивом, на шашлыках, на рыбалке, в спортзале — везде мужчины жалуются друг другу на свою жизнь и по-мужски утешают друг друг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Самые теплые отношения между мужчинами возникают тогда, когда уровень взаимного доверия позволяет делиться самыми сокровенными переживаниями. То есть, проще говоря, когда можно изливать друг другу самые глубокие и болезненные пережи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Лучший друг, настоящий друг — это, обычно, тот, кому можно выложить все свои тяжелые думы, кто все выслушает, поймет и посочувствует, кто не воспользуется полученной информацией и не ударит потом в спину (женщины, кстати, всегда пользуются и, если им нужно — бьют со всего размах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835280" y="404640"/>
            <a:ext cx="5761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ужская  дружб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Tahoma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Tahoma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ожет ли существовать настоящая крепкая дружба между мужчиной и женщиной? Наверняка этим вопросом часто задаются школьники, сидя за партой! Так как не могут понять, что это за чувство, вызывающее повышенный интерес к однокласснице или однокласснику. Дружба ли? Влюблённость л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ходит время, и они становятся лучшими друзьями и начинают верить в дружбу между мальчиком и девочкой, мужчиной и женщиной. Они счастливейшие люди, потому что ещё не осознали закона притяжения. Они ещё не понимают, что плюс тянется к минусу, а минус к плюс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Что плохое тянется к хорошему, а хорошее к плохому. Что многое в этом мире основано на энергетическом обмене. Что все в жизни дополняет друг друга, и эти дополнения, и энергетический обмен, как правило, отрицательны в сопоставле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ружба между мужчиной и женщиной – понятие в любом случае относительное, так как они разнополые существа. И тяга друг к другу может происходить только лишь на фоне симпат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50920" y="0"/>
            <a:ext cx="88930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ношения  между  мужчиной  и  женщиной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сихология  отношени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66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ы  считаем,  что  каждый  человек  относится друг  к  другу  по – разному.  Кто – то  понимает  одного  очень  хорошо: сочувствует, дает  советы. А  кто – то даже  просто  пообщаться  или  поговорить  не  знает  о  чем. У  любого  человека  существуют  свои  характерные  качества. На  основе  этих  качеств  развиваются  отнош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полнили: Морозюк  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улешова  А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9:30:56Z</dcterms:created>
  <dc:creator>Светлана</dc:creator>
  <dc:description/>
  <dc:language>en-US</dc:language>
  <cp:lastModifiedBy>Светлана</cp:lastModifiedBy>
  <dcterms:modified xsi:type="dcterms:W3CDTF">2008-12-10T10:12:26Z</dcterms:modified>
  <cp:revision>5</cp:revision>
  <dc:subject/>
  <dc:title> Кого  из  своих   знакомых  ты  понимаешь  лучше…</dc:title>
</cp:coreProperties>
</file>