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5F4-0044-4F88-B0E0-062FE323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2AA-D86A-4A32-9DDC-4ADACE52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110-C8CB-41CD-88CD-A27A1464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DBA-9DEB-4FEF-8E90-1032B8EC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8D2-B451-4B4B-A9A3-09A2A5F8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349-0FAC-4076-A1B7-747A31BC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95F-06BF-46FB-AB6D-2603FA6E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595-23A2-444F-B1C4-E99A5035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044-C4F6-4C6B-84BB-DB469459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4FF-99C8-45E6-B13C-4E55CD68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BB7-AE8F-44C0-AB5F-30504D5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5CA-C799-477A-B7C7-CE730C00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B795-3567-4CA2-B8FE-9FF7A7AF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голок природы- отчий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й ты Русь, моя родина кротк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шь к тебе я любовь берегу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. Ес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итаты о природ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е знает никаких прав, ей известны только зак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. Адам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деляет гением, общество -  умом. занятия - вку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 Вовена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у легче всего подчинить, повинуясь 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. Бэ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создала нас легкомысленными, чтобы утешать нас в несчасть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. Воль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всегда имела больше силы, чем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. Воль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е имеет органов речи, но создает языки и сердца, при посредстве которых говорит и чувству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 Г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динство природы 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pиpода не может пеpечить человеку, если человек не перечит ее закон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8526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 растете, когда один на один общаетесь с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4076640"/>
            <a:ext cx="79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не любит природу, то не любит и человека — тот плохой гражда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560" y="5229360"/>
            <a:ext cx="81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, что делается согласно природе, должно считаться хорош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0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Работу выполнили учащиеся 11 класса Стеля Ксения и Тулешова Анже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асота природы в разные времена го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а с красоты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рова снять не позво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ты машинами не вынудишь у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го твой дух не угад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имняя пора в дере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но утром на рассв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ег дороги засып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ужит вьюга, дует вет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вихрем зиму зазыв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ый пух накроет 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коврами все застел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кружившись в карус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изной своей забе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но утром на рассв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ей окна украш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, - и взрослые, и дети,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иму с радостью встречаю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есна- прекрасная пора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Уж тает снег, бегут руч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 окно повеяло весною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асвищут скоро солов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И лес оденется лист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Чиста небесная лазу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еплей и ярче солнце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ра метелей злых и бу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пять надолго миновал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Вот и лето на пороге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селом на полной в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ет ветер-само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м картофельное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лиловеньким цве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за полем, где ряб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чно с ветром не в лад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возь дубняк бежит троп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низ, к студеному пру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возь кусты мелькнула лод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ябь и солнца острый блес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а плоту грохочет чет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робь вальков под гулкий всплес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уд синеет круглой чаш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вы клонятся к воде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а плоту лежат рубаш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мальчишки все в пру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лнце брызнуло поло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ни вьются словно ды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х, разденусь за березк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ки вытяну - и к ни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нылая пора! Очей очаровань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в осени первонач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откая, но дивная п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ь день стоит как бы хруста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лучезарны вечер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стеет воздух, птиц не слышно б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далеко еще до первых зимних бу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льется чистая и теплая лазу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отдыхающее пол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хранение животного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сохранить животных и птиц, необходимо дать им пропитание, убежище и воду. Вот что нужно сделать, чтобы получить быстр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жегодно возделывайте огороды с кукурузой, просом и подсолнухами: осенью и в начале зимы они будут кормить птиц и лесны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жайте сосны, ели и кустарники со съедобными плодами: плоды, конечно, появятся не сразу, однако через несколько лет они обеспечат пропитание животным на целые г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копайте ложбинки в родниках для того, чтобы у животных было удобное место для водопоя. Чутье обязательно приведет их сю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путь дорог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 сохранении природы важно думать, не только находясь в тиши лагеря, в окружении старших и руководителей. Повзрослев, вы сами вступите в открытый бой со страшным драконом -загрязнением нашей планеты. От каждого из вас потребуется внести свою лепту в дело спасения челове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равила жизни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. Я буду относиться к природе как к величайшему наследству, которое необходимо поддерживать и приумножать для всеобщего пользования и всеобщей радости. Я не буду засорять воду, поля, леса и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. Я буду предупреждать случайные пожары. Я буду разжигать костры только в безопасных местах и не оставлю их до тех пор, пока они полностью не угас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 Я буду относиться к частной и общественной собственности с уважением. Я никогда не забуду, что пользование природой - это привилегия, которую можно потер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. Я научусь правильным методам сохранения воздуха, почвы, воды, лесов, минералов, лугов, пастбищ, животных и птиц, в этом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 буду подавать пример и другим. Я буду придержи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зведческих законов, традиций и обычаев во всех моих начи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7:36:31Z</dcterms:created>
  <dc:creator>Светлана</dc:creator>
  <dc:description/>
  <dc:language>en-US</dc:language>
  <cp:lastModifiedBy>Светлана</cp:lastModifiedBy>
  <dcterms:modified xsi:type="dcterms:W3CDTF">2008-09-24T08:33:27Z</dcterms:modified>
  <cp:revision>4</cp:revision>
  <dc:subject/>
  <dc:title>Уголок природы- отчий дом</dc:title>
</cp:coreProperties>
</file>