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B3D-49FC-4E9A-B5A3-0FE368D0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4F7-7747-4D8E-B1A1-CFB0361D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983-1423-4A32-9F4A-E16B6C6A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542-F7F8-44A5-A62E-5A12816C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E007-FAD8-4D3B-B32C-7FFDC515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C345-BFF3-41B2-BBBB-AD66D902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4E16-6E9E-4AF6-A875-FCAB1624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D4A0-914B-488F-A4F1-749C120E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8261-12AB-4888-B5FE-FB93B73D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AC6B-46F3-4BA8-A447-71C55636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C202-CFB0-422B-B014-1615DA5A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12D-4F93-4671-B285-E6985D97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8B3A-9D37-490E-950F-51FD2436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7E11-FBAE-471F-B778-67370855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753B-B2B0-4331-A736-AFDB91B7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6E34-A16E-4A4D-90F3-3ACD32A9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1984-0A2B-4D1F-9F03-711C0774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C0AA-3708-47B3-B144-16C817E8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E232-081E-4970-8F5B-401AB540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9F88-8C34-478F-8A4D-08A2EBBE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29B6-D916-4B25-8747-957C6B68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5692-E3F2-4682-9D1E-9EDEB01C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AF7-6269-4AEE-AC95-268BE946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0081-4404-46CA-9273-20D6E69C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BF56-4B8F-4425-9ECB-D8A0FCD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8599-AC63-4783-AAB9-28F501DE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BD94-F70C-4814-B30F-AD3054B7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5422-3B79-4575-9C68-26C15CF1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B4CB-9AA2-46B1-B6FD-A0BB2539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DBD47-81FC-4177-BFB6-69F5A161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FFF-7B9A-4462-9E53-57B970A3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9A7-7C29-4022-AFC5-27A82981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F0D-47FC-4542-B497-39951981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472-AB6F-478F-91C9-B41DEB26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DA0-DA29-4201-B727-5A5C8013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F68-D626-4B0E-8CF0-ECA80CD8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E9C6-181B-4FF1-9851-B574DD09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6D76-E956-401C-BA25-7357338D8C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1044-2100-4DFA-A8A9-182C4B13A0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5084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ртин Лютер -  ярый противник католической церкви, римского папского престола, основатель протестантского религиозного учения в Германии. Он был проклят и отлучён от церкви в 1520 году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287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95 тезисо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2133720"/>
            <a:ext cx="56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2421000"/>
            <a:ext cx="525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 октября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1517 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монах-августинец, профессор богословия в университете г. Виттенберга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Мартин Люте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рикрепил к дверям церкви несколько листков бумаги. Это были знамени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95 тезисов» - возражения против торговли индульген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и всколыхнули всю Герман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 началась реформ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987640" y="83664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1773360"/>
            <a:ext cx="43923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520 г. Мартин Лютер  был отлучен от церкви, а в 1521г. Его вызвали на императорский суд в город Ворм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Лютера потребовали отречься от своего учения, но он отказался подчиниться Папе и одобрить продажу индульген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аясь к собранию, Лютер сказал: «На этом я стою. И не могу иначе. Бог поможет мне. Аминь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295092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Учение Мартина Люте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ловек спасается только ве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ра обретается только через милость Бога и не зависит ни от каких заслуг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лько Священное Писание, слово Божие, является авторитетом в делах в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5280" y="4653000"/>
            <a:ext cx="208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мас Мюнц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93 – 1525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3640" y="1341360"/>
            <a:ext cx="52560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ждём народной Реформации стал священник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Томас Мюнц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 говорил, что «власть должна быть отдана простому народу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зывал свергнуть госп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ё имущество сделать общим досто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том 1524 г. на юге Германии началась крестьянская война. Её назвали Вел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2847960" cy="3809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067280" y="1557360"/>
            <a:ext cx="4105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ртин Лютер не поддержал восставш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и восставших не было еди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воряне разбили крестьянские отряды поодиноч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. Мюнцер был схвачен и казнё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486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ьяне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. в   Гер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00000" y="1413000"/>
            <a:ext cx="7272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1529 году в Германии нач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религиозные войны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йны между  католиками и протеста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16000" y="836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141300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Протестанты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32130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ники  реформации 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2235240" cy="3745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348000" y="907920"/>
            <a:ext cx="54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1555 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в городе Аугсбурге был подписан мир, по которо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1844640"/>
            <a:ext cx="48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толичество и протестантство признавались равнопра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язья в своих землях определяют религию подданных. «Чья страна, того и ве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теранская церковь стала простой и доступ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 церковь утвердилась в большинстве земель Гер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522936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т мир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закрепил политическую раздробленность Герман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что надолго затормозило процесс создания единого национальн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277200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00000" y="515772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 же в наши дни Папа Римский Бенедик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ворит о необходимости оправдания действий Мартина Лютера и о его прощении католической церков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0"/>
            <a:ext cx="856908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рь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из перечисленного ниже стало причинами реформации? Возможны несколько правильных от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потребность верующих в духовном обновлении, в простом и понятном религиозном уч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запреты церкви на строительство мануфакту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сбор десятины и торговля индульген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 вмешательство церкви в дела светской (княжеской) 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формация в Германии начала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в 1519 г.                       в) в 151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в 1520 г.                       г)  в 15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3996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4000" y="472428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86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в немецком городе Виттенберге не первую сотню лет  жители ухаживают за памятником  Мартину Лют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33360"/>
            <a:ext cx="8569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ие из высказываний принадлежат Мартину Лютер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« Власть должна быть отдана простому народ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«Милость Бога не зависит от заслуг   чело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«Человек спасается только вер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321300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Выбери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неверны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.  Лютеранская церков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стала дешё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одолжала подчиняться Папе Римск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не признавала поклонение иконам и святым мощ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5229360"/>
            <a:ext cx="813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Дайте 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реформация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отестанты – 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прове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, в,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формация – движение за переустройство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тестант – сторонник реформации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692280"/>
            <a:ext cx="7777440" cy="81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 домашнее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исать характеристику Мартина Л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лнить таблицу 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11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сказ по материала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1 ( п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ыбору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даты начала и окончания реформации в Германии, уметь объяснять новые термины и по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771640" cy="3311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95640" y="3068640"/>
            <a:ext cx="441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друг в начал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Папа Римский Бенедик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ожил вернуть доброе имя Мартину Лют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Начало Реформации в Европе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новление христиан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250920" y="405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00280"/>
            <a:ext cx="835344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ие события и почему происходили в Германии в 1517-1555 год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ую роль сыграл в них Мартин Люте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овы итоги этих событ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означают эти сл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62064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йдём ответы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4292640"/>
            <a:ext cx="563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Ре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протес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лютеранская церк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177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Реформация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3860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движение за переустройство церк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2997360"/>
            <a:ext cx="66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376360" cy="3097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8360" y="4365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па Ле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83664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852640"/>
            <a:ext cx="5327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ершить паломничество в Италию, увидеть Папу Римского, получить его благословение – не было большего желания у искренне верующего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часто это путешествие верующих разочаровыв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168360" cy="2681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0000" y="62064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ажа индульген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4360" y="1628640"/>
            <a:ext cx="439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помни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церковь наживала свои богат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716280"/>
            <a:ext cx="1995480" cy="914400"/>
          </a:xfrm>
          <a:prstGeom prst="rect">
            <a:avLst/>
          </a:prstGeom>
          <a:solidFill>
            <a:srgbClr val="fed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а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ульг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5734080"/>
            <a:ext cx="1922400" cy="914400"/>
          </a:xfrm>
          <a:prstGeom prst="rect">
            <a:avLst/>
          </a:prstGeom>
          <a:solidFill>
            <a:srgbClr val="fed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а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рк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3357720"/>
            <a:ext cx="2016000" cy="914400"/>
          </a:xfrm>
          <a:prstGeom prst="rect">
            <a:avLst/>
          </a:prstGeom>
          <a:solidFill>
            <a:srgbClr val="f8d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а за об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3716280"/>
            <a:ext cx="2232000" cy="914400"/>
          </a:xfrm>
          <a:prstGeom prst="rect">
            <a:avLst/>
          </a:prstGeom>
          <a:solidFill>
            <a:srgbClr val="fcd0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а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основ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святым мощ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32720" y="5661000"/>
            <a:ext cx="1942920" cy="914400"/>
          </a:xfrm>
          <a:prstGeom prst="rect">
            <a:avLst/>
          </a:prstGeom>
          <a:solidFill>
            <a:srgbClr val="fed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рко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ся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5013360"/>
            <a:ext cx="1657440" cy="1079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12200" y="6154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537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551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4797360"/>
            <a:ext cx="93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556000" y="6092640"/>
            <a:ext cx="1079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508720" y="4797360"/>
            <a:ext cx="1295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219640" y="602100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484000" y="955800"/>
            <a:ext cx="31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чины Реформ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1989000"/>
            <a:ext cx="69120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мирщение сознани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тиворечия между тем, что проповедовали священники  и     тем, что совершали на д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удовлетворённость прежней церковью толкало людей на поиск  более простой и искрен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4:03:52Z</dcterms:created>
  <dc:creator>POPOV</dc:creator>
  <dc:description/>
  <dc:language>en-US</dc:language>
  <cp:lastModifiedBy>POPOV</cp:lastModifiedBy>
  <dcterms:modified xsi:type="dcterms:W3CDTF">2010-01-24T15:29:57Z</dcterms:modified>
  <cp:revision>20</cp:revision>
  <dc:subject/>
  <dc:title>Начало реформации в Европе.</dc:title>
</cp:coreProperties>
</file>